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505-0069-4010-B5EC-A8969D30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852-4D3F-4189-825F-893693F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1DD-F327-459A-AC1D-22D5FC24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CF9-706D-468A-9EAD-14878AB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6F9-DA99-4E2E-A401-0BC02E0F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3E9-3885-4AF9-90BB-8AD9B572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3C7-3B96-4783-8833-79A6E369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ED6-9ABC-4887-9EE0-9EA9986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A2E-21E2-4466-A829-FB6B22D9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C5B-390F-416D-89D0-34F9DD40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BC0-D228-4A7D-9A61-AB1E2C5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71E-1A5E-4454-BE1D-E4CEED6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01B-BD30-4A5F-965B-755910D1F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ur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41760" y="333360"/>
            <a:ext cx="4602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zczyp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zczypiorek"/>
          <p:cNvPicPr/>
          <p:nvPr/>
        </p:nvPicPr>
        <p:blipFill>
          <a:blip r:embed="rId1"/>
          <a:stretch/>
        </p:blipFill>
        <p:spPr>
          <a:xfrm>
            <a:off x="4067280" y="1108080"/>
            <a:ext cx="5076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as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360" y="944640"/>
            <a:ext cx="5651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ro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groch"/>
          <p:cNvPicPr/>
          <p:nvPr/>
        </p:nvPicPr>
        <p:blipFill>
          <a:blip r:embed="rId1"/>
          <a:stretch/>
        </p:blipFill>
        <p:spPr>
          <a:xfrm>
            <a:off x="3492360" y="1336680"/>
            <a:ext cx="5651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kalare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ietrusz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332000"/>
            <a:ext cx="529272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kapu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1098720"/>
            <a:ext cx="58672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e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afika:Apium graveolens var rapaceum.jpg"/>
          <p:cNvPicPr/>
          <p:nvPr/>
        </p:nvPicPr>
        <p:blipFill>
          <a:blip r:embed="rId1"/>
          <a:stretch/>
        </p:blipFill>
        <p:spPr>
          <a:xfrm>
            <a:off x="3059280" y="81288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ce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360" y="439560"/>
            <a:ext cx="56516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archew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marchew"/>
          <p:cNvPicPr/>
          <p:nvPr/>
        </p:nvPicPr>
        <p:blipFill>
          <a:blip r:embed="rId1"/>
          <a:stretch/>
        </p:blipFill>
        <p:spPr>
          <a:xfrm>
            <a:off x="3708360" y="1268280"/>
            <a:ext cx="543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rze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rzepa"/>
          <p:cNvPicPr/>
          <p:nvPr/>
        </p:nvPicPr>
        <p:blipFill>
          <a:blip r:embed="rId1"/>
          <a:stretch/>
        </p:blipFill>
        <p:spPr>
          <a:xfrm>
            <a:off x="3649680" y="333360"/>
            <a:ext cx="54943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ko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koper"/>
          <p:cNvPicPr/>
          <p:nvPr/>
        </p:nvPicPr>
        <p:blipFill>
          <a:blip r:embed="rId1"/>
          <a:stretch/>
        </p:blipFill>
        <p:spPr>
          <a:xfrm>
            <a:off x="4572000" y="189000"/>
            <a:ext cx="4572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23:31:03Z</dcterms:created>
  <dc:creator>PCN</dc:creator>
  <dc:description/>
  <dc:language>en-US</dc:language>
  <cp:lastModifiedBy>PCN</cp:lastModifiedBy>
  <dcterms:modified xsi:type="dcterms:W3CDTF">2008-02-23T23:51:57Z</dcterms:modified>
  <cp:revision>2</cp:revision>
  <dc:subject/>
  <dc:title>Slajd 1</dc:title>
</cp:coreProperties>
</file>